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7AA-8F89-4E5D-973D-1438511E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BF8-6C25-45C5-94E2-D70A4DB0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542-EE41-45AE-9C67-4D5948D5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02E-4305-47B5-B977-546CF692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0F1E-7CA3-4A13-8E22-C7F36642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17EC-4421-4616-88F4-5D1AFD99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69BB-90E7-42FA-9227-3B9719A6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5B22-9E75-472D-A571-F5488C55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0E5A-BFF3-4E97-A622-492FE0E7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9219-129A-48D5-ADEF-FFBA6F7E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9A62-F359-4A5A-A832-EA4C9D7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46D-0D8E-42F7-AF04-876FFEB2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D3EC-76AE-4122-9562-498CE7B7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F041-A136-494C-BFCF-8CB03A41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4ABF-0B92-478A-B14F-843E5589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ED44-A665-402F-BFA6-E12C8DEC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48EC-5146-4766-B856-9B272ADD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D00F-B82B-4748-8151-25CE5F73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CD20-45DE-43A5-81E9-4403798C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FF5E-FD66-442C-9F78-84F48B26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A3C4-E7E6-4779-BE14-E08539E6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DD00-87BB-424B-BAB2-74408EE5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DB8-27C9-424C-B46C-86A75D9C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03AE-F36D-4EF1-822B-85783DF5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24C7-56C4-4D09-BD4F-F0CA5F23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E10A8-20D3-4CE0-B36B-EC23D784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781C5-A926-4E3D-B390-3E043D0E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1833-AD54-4858-8202-F4E0C456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81370-99D0-44B1-BE7B-ECC1DCA6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8C5C-8937-47BA-9080-A894B805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B2B3-0409-4049-B4C8-661857FF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371F-6D9F-41D3-A4AE-C3BAA716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27FE-EBE0-4CFB-A7EF-96191CA7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843-347B-4676-A415-1141CA50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39FE0-6187-49FA-A962-2AF5B98D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F8596-F394-4260-98CD-E4605F38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ABCC-CB48-44FF-AE79-858CBFE0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93A00-D7F4-4719-AB30-856FA00B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88C7-7B58-4F59-924A-3937D8CD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31C31-A972-41BD-A24D-E8FB4935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63A7-F99E-4457-A49B-BA79298A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C5EB0-BF4D-487C-9D67-B038BE56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FD834-AD4D-4EB8-8C26-D0E75CCA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246B3-CB94-4AEB-A2CD-8385CE45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8B8-837E-471A-A674-B3A39AEA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9FDA0-46B1-4A51-87BD-2BBA6599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D116E-1D48-495F-98DD-53D29A11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CCE99-5D35-4AFF-A2F4-6E13071C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8401C-DD79-4664-AE90-13C94F6D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DF07A-4EB9-40AF-91FA-160F5293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34B61-6D45-4EC6-97D0-36808155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C6B53-AA56-4E62-B1AD-2B1194DA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AF51B-230B-4D36-8C36-F20A931F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F4665-3E70-411C-A935-8FA48D56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BB9D4-DBD7-4420-A068-FFD9FEF2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A6E-46FC-4572-BFB4-7F795ED8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B46B4-10EC-420E-9366-29FEE021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E0A2B-79FE-4FA8-987E-F724D5F9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B531C-9C2F-40E1-BCA5-0B5147AC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797FA-2EEB-4E9A-B3E6-968CAD80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4D5ED-C06A-44BE-A4AC-9C22594C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A45C5-589C-4DB7-8347-54231432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08693-1BFA-4F4E-8240-F64B361B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D99B1-AA78-4882-B33E-BD1F915E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152F9-66D9-4086-825E-B7A8F6F5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1A62B-1E1A-4A59-AFEB-BA11F3F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15C-6EC7-413A-BE8F-11A3B88E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A2143-7F91-44D3-8913-CBB27B12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6F6AF-5FA1-4BE6-A6C0-A82A10C0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6E4F1-D6FB-431D-8612-2383D48A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E3AF2-5572-41B8-A1C0-A5E1B9DB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87183-EAA6-4C7C-92AC-682C834E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7E185-4439-4F5C-B749-81574B64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5960D-BDAA-42C9-9440-A58FAAD9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D71CD-F856-4211-AB9E-6B2C82B7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FEE9A-546F-4343-93CE-05B0B352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3D6D6-794B-40B3-93A6-CD67A27D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D3E-A31A-4DB8-835C-23326EF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C7FAD-F11A-4BBA-B7A6-580A0D88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E7825-D823-4E4B-BC7F-7CE636BE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324E4-CBF3-4371-9236-77EBB381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F0E0-008A-440D-B884-0F620F40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F16E-4D03-4756-8123-B610B606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FF2-48AA-4630-B77D-CAC0C210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8AF2-3DA9-4D08-B5A5-FCE394F389D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1088-D1F8-49AE-95C6-0D76982B03F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6934-2479-4A6D-B3AF-EC90940A707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457E-C3B7-4E36-A220-C794FBD1543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E059-C8AC-4D92-AA49-AFE267404E0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514A-0F6A-49A3-8245-E0247216859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F1BA-6C18-4B3E-A76E-619C7E5D74B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96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2"/>
          <p:cNvSpPr/>
          <p:nvPr/>
        </p:nvSpPr>
        <p:spPr>
          <a:xfrm>
            <a:off x="3276720" y="5589720"/>
            <a:ext cx="2447640" cy="1079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3708360" y="5877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16 го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16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3"/>
          <p:cNvSpPr/>
          <p:nvPr/>
        </p:nvSpPr>
        <p:spPr>
          <a:xfrm>
            <a:off x="468360" y="1989000"/>
            <a:ext cx="828036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134,2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06200" y="115920"/>
            <a:ext cx="90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Новопершинского сельсовета Дмитриевского района за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106200" y="1413000"/>
            <a:ext cx="903780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Новопершинского сельсовета от 17.12.2015 № 25 «О бюджете  муниципального образования «Новопершинский сельсовет» Дмитриевского района Курской области  на 2016 год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я Собрания депутатов Новопершинского сельсовета от 21.12.2016 №57 «О внесении изменений в решение Собрания депутатов Новопершинского сельсовета  от 17.12.2015 №25 «О бюджете  муниципального образования «Новопершинский сельсовет» Дмитриевского района  Курской области на 2016 год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Новопершинс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на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79280" y="1000080"/>
          <a:ext cx="438624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16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3,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85,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8,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16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42920" y="798480"/>
          <a:ext cx="7607520" cy="528948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16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2016 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2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2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4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94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9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9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352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14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14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3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2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2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врат остатков субсидий, субвенций и иных межбюджетных трансфер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86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84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16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2240" y="857160"/>
          <a:ext cx="8267400" cy="547380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6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6 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1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селения и территории от последствий чрезвычайных ситуаций природного и техногенного характера, гражданск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05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безопасности и правоохранительной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214200" y="214200"/>
          <a:ext cx="8245440" cy="443880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6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16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8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5"/>
          <p:cNvSpPr/>
          <p:nvPr/>
        </p:nvSpPr>
        <p:spPr>
          <a:xfrm>
            <a:off x="158760" y="12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Диаграмма 3"/>
          <p:cNvGraphicFramePr/>
          <p:nvPr/>
        </p:nvGraphicFramePr>
        <p:xfrm>
          <a:off x="500040" y="1000080"/>
          <a:ext cx="8772480" cy="49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000080"/>
                    <a:ext cx="877248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16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2419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16,5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Блок-схема: альтернативный процесс 7"/>
          <p:cNvSpPr/>
          <p:nvPr/>
        </p:nvSpPr>
        <p:spPr>
          <a:xfrm>
            <a:off x="5435640" y="2492280"/>
            <a:ext cx="266364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404,3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Блок-схема: процесс 5"/>
          <p:cNvSpPr/>
          <p:nvPr/>
        </p:nvSpPr>
        <p:spPr>
          <a:xfrm>
            <a:off x="539640" y="4508640"/>
            <a:ext cx="266400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16,5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Прямая со стрелкой 6"/>
          <p:cNvCxnSpPr>
            <a:stCxn id="340" idx="3"/>
            <a:endCxn id="341" idx="0"/>
          </p:cNvCxnSpPr>
          <p:nvPr/>
        </p:nvCxnSpPr>
        <p:spPr>
          <a:xfrm flipH="1">
            <a:off x="1664640" y="2319480"/>
            <a:ext cx="9291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5" name="Прямая со стрелкой 14"/>
          <p:cNvCxnSpPr>
            <a:stCxn id="340" idx="4"/>
            <a:endCxn id="342" idx="0"/>
          </p:cNvCxnSpPr>
          <p:nvPr/>
        </p:nvCxnSpPr>
        <p:spPr>
          <a:xfrm flipV="1">
            <a:off x="4716360" y="2491560"/>
            <a:ext cx="20520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6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7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Novop</cp:lastModifiedBy>
  <dcterms:modified xsi:type="dcterms:W3CDTF">2017-04-26T13:42:02Z</dcterms:modified>
  <cp:revision>3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