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B3F-5E0F-451A-BC7C-CA1D77FB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64D-6B9D-4EB8-B4EC-B0E1D3A2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5C4E-C3AD-4219-9744-45FBD4B5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9C9D-B8AB-40DB-A17D-12E4BA34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77B6-6B36-4A8B-97B3-2CB13663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5ED8-D52C-43E9-A7E7-362B652D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E350-D566-4BE6-B361-13ADAD44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5018-39E4-4D03-967A-73BE6D26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E9FA-0D3A-4F9F-B470-8AC16E11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5975-771B-4C62-BC2A-32D672B1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63E8-F8C3-49AF-BCEB-626A8DFD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5A1-87A9-4B8E-B386-6516BE9D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CE98-043B-43E2-AC69-0A94E20E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C5A4-DA5D-4800-AB41-AD6941F8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79DA-4551-47D7-B127-E570516C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2D7C-53D2-46CA-800F-078467BF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5D88-A791-4435-92FF-7B26FFD5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58F57-6E23-44E0-BFC5-43A8BD35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84A8C-0F1F-4243-971D-1149C142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AF8E7-6DF2-4C38-805F-376CEB0F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D0209-5EF3-4A31-9618-BA52C2B3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32645-AD68-4B45-941C-D391E955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05A-5892-4867-8CA2-0FEDCFCE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9FBC4-CC2D-49B0-9E1E-FDD49004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BFC89-D707-4C20-B9F7-2F6DE75B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BE8F7-5DFF-4433-8D2D-A3B56956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40CBA-9323-4561-8BE2-57F712CF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33E75-D589-4C0F-A85C-AD1DB815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28CE5-A30C-448B-9B89-4D034346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A12A6-8223-4833-8BC1-4CF994F0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3E530-E5D3-4030-8449-426DF97C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13015-033C-4896-87B8-4BA2DF83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87767-53E7-48CB-902E-F6F303A0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53E5-E919-405A-8DC4-8D1E88F5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48F0B-B7A5-4D08-A2AC-470D6945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4CD9F-94B5-4A12-A542-A1E34DC5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C8809-BEEF-4DF7-B1BA-AFC95C9A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177DF-6C46-48C4-B8E7-702B3F3C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14960-76FD-4B4D-8BC3-4ACA01BB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357A9-31C1-460A-AA04-86316CB3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9A9B3-16D3-431B-A3A8-49C63B12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67C75-7021-485B-A4FB-A0A819CF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4BE7A-5FA1-42D5-AE79-C37D3CE8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FA5C0-C883-435A-B9F2-56103F8F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DCA-585E-4A69-8595-87882CF0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1C8DE-41C4-4649-B505-489A9621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A87B2-C99D-45B7-B771-CAB32E0D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310F5-2828-4F33-A3C0-A0B2EB89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145C7-408F-4AAF-9186-3CD51A35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571D3-93B0-4512-86DF-C2C8DA35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4F87B-056E-45CA-8A44-700C40AA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4412A-ABD3-4B47-BB33-9106645F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757BE-2F35-48CA-990B-D4D0EFFE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65AF3-5749-471F-9CBB-7CD6DDBD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7D5B8-FAB6-4BE8-AC5A-520B96C4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EAE1-CB00-445A-A17C-C73B7CFB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95F87-41C0-477E-8FDB-75EEE9E1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3DBCD-E53E-447D-89EE-ADD9DE99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709E2-CB61-4A76-ACB3-00219751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3C3C8-B109-4E9C-8C1C-70EC0452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600B5-72CA-408B-976B-BEA3F15F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265DA-E27E-49AE-AD75-EB2E0BFE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B0B31-F34E-499B-9E02-143B054A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5F1FE-0F9B-49DB-861A-04E4CD7F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C9012-42F6-4B76-AF24-4182C827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C0312-11E5-4787-9B95-B6CA6F6F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3B67-F8E3-4C2E-96F5-6A52C066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90D2E-0B0B-4FD1-8DDF-DD431FD4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573F8-F8DC-480A-8EFA-D293AEF4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64502-4874-4929-88C8-2DFFCDE5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0875C-3C3D-4386-9D25-73B431FB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E97D4-F14F-4FB9-83C9-58CE3589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13F52-76B8-427B-8BDB-6331B3DF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41AC7-F42E-4029-8BCD-7991A3CA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71980-937C-44F2-92AB-AE8562BF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BFDB5-FFB0-47D1-8997-7A8BE3F7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29A7D-7BFB-434E-A244-C60CEB55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B38C-50C8-4789-A9E7-3D7FEE8B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A5F41-DB5C-48A9-9958-9EABC49E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3D3C5-0DBF-48E4-BC46-2F06D1A9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44551-36A7-46EA-877D-F0408FEE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70910-B764-44BB-A51E-B0DB9E3C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3FA2A-51AC-4175-8B62-D497DF20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39D7-1D32-4F3D-B665-6A7930BE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61F0-B2A2-478E-866C-F838E205385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18CD-9166-4A88-A570-19EF6F47C7A9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ABB9-22F3-4B73-B1AD-E63AC05F7D59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7FDF-689B-40AA-822E-5ADD7897CD7F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695B-3766-4DA6-AA43-5F07519BFA2F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3989-48F0-4496-A41A-AF7F277A758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A15E-1AE0-47DD-804E-875A079E5BB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WordArt 5" descr=""/>
          <p:cNvPicPr/>
          <p:nvPr/>
        </p:nvPicPr>
        <p:blipFill>
          <a:blip r:embed="rId1"/>
          <a:stretch/>
        </p:blipFill>
        <p:spPr>
          <a:xfrm>
            <a:off x="165240" y="109440"/>
            <a:ext cx="8875440" cy="65962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2"/>
          <p:cNvSpPr/>
          <p:nvPr/>
        </p:nvSpPr>
        <p:spPr>
          <a:xfrm>
            <a:off x="7000920" y="5572080"/>
            <a:ext cx="2448000" cy="107964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WordArt 13"/>
          <p:cNvSpPr txBox="1"/>
          <p:nvPr/>
        </p:nvSpPr>
        <p:spPr>
          <a:xfrm>
            <a:off x="3708360" y="5877000"/>
            <a:ext cx="172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поселения за 2020 год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Овал 3"/>
          <p:cNvSpPr/>
          <p:nvPr/>
        </p:nvSpPr>
        <p:spPr>
          <a:xfrm>
            <a:off x="468360" y="1989000"/>
            <a:ext cx="8280360" cy="237672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Times New Roman"/>
              </a:rPr>
              <a:t>Национальная обо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(расходы по субвенциям на осуществление первичного воинского учета на территориях, где отсутствуют военные комиссариа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86,80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3"/>
          <p:cNvSpPr/>
          <p:nvPr/>
        </p:nvSpPr>
        <p:spPr>
          <a:xfrm>
            <a:off x="106200" y="115920"/>
            <a:ext cx="90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Исполнение бюджета  Новопершинского сельсовета Дмитриевского района за 202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4"/>
          <p:cNvSpPr/>
          <p:nvPr/>
        </p:nvSpPr>
        <p:spPr>
          <a:xfrm>
            <a:off x="106200" y="1413000"/>
            <a:ext cx="9037800" cy="31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я подготовлена на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ект Решения Собрания депутатов Новопершинского сельсовета от             «Об исполнении бюджета муниципального образования «Новопершинский сельсовет» Дмитриевского района Курской области  за 2020год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3"/>
          <p:cNvSpPr/>
          <p:nvPr/>
        </p:nvSpPr>
        <p:spPr>
          <a:xfrm>
            <a:off x="179280" y="442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ные параметры бюджета Новопершинского сельсов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митриевского района за 202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79280" y="1000080"/>
          <a:ext cx="4386240" cy="2857680"/>
        </p:xfrm>
        <a:graphic>
          <a:graphicData uri="http://schemas.openxmlformats.org/drawingml/2006/table">
            <a:tbl>
              <a:tblPr/>
              <a:tblGrid>
                <a:gridCol w="2192400"/>
                <a:gridCol w="2193840"/>
              </a:tblGrid>
              <a:tr h="66708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2020год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</a:tr>
              <a:tr h="6667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53,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63,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Профици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7,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</a:tbl>
          </a:graphicData>
        </a:graphic>
      </p:graphicFrame>
      <p:sp>
        <p:nvSpPr>
          <p:cNvPr id="325" name="Прямоугольник 5"/>
          <p:cNvSpPr/>
          <p:nvPr/>
        </p:nvSpPr>
        <p:spPr>
          <a:xfrm>
            <a:off x="179280" y="40291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ми источниками финансирования дефицита бюджета поселения в 2020году является изменение остатков на счетах по учёту средств бюдж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5"/>
          <p:cNvSpPr/>
          <p:nvPr/>
        </p:nvSpPr>
        <p:spPr>
          <a:xfrm>
            <a:off x="108000" y="260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доходам за 202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042920" y="798480"/>
          <a:ext cx="7607520" cy="5526000"/>
        </p:xfrm>
        <a:graphic>
          <a:graphicData uri="http://schemas.openxmlformats.org/drawingml/2006/table">
            <a:tbl>
              <a:tblPr/>
              <a:tblGrid>
                <a:gridCol w="5189760"/>
                <a:gridCol w="1266840"/>
                <a:gridCol w="1150920"/>
              </a:tblGrid>
              <a:tr h="627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дох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очненный план на 2020г.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2020год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049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  и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47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47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8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8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2905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3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32,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56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56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8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57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57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4352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  НЕНАЛОГОВЫЕ ДОХОД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87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87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та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0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0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650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сидии бюджетам бюджетной системы Российской федерации (межбюджетные  трансфер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4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4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вен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8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8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935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935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Прямоугольник 3"/>
          <p:cNvGrpSpPr/>
          <p:nvPr/>
        </p:nvGrpSpPr>
        <p:grpSpPr>
          <a:xfrm>
            <a:off x="-128520" y="23760"/>
            <a:ext cx="9405720" cy="933480"/>
            <a:chOff x="-128520" y="23760"/>
            <a:chExt cx="9405720" cy="933480"/>
          </a:xfrm>
        </p:grpSpPr>
        <p:pic>
          <p:nvPicPr>
            <p:cNvPr id="329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128520" y="23760"/>
              <a:ext cx="94057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112680" y="260280"/>
              <a:ext cx="892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направления по доходам за  2020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Диаграмма 3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68196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ая со стрелкой 3" descr=""/>
          <p:cNvPicPr/>
          <p:nvPr/>
        </p:nvPicPr>
        <p:blipFill>
          <a:blip r:embed="rId3"/>
          <a:stretch/>
        </p:blipFill>
        <p:spPr>
          <a:xfrm>
            <a:off x="4627440" y="4950000"/>
            <a:ext cx="49392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3"/>
          <p:cNvSpPr/>
          <p:nvPr/>
        </p:nvSpPr>
        <p:spPr>
          <a:xfrm>
            <a:off x="250920" y="352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расходам за  202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92240" y="857160"/>
          <a:ext cx="8267400" cy="5068800"/>
        </p:xfrm>
        <a:graphic>
          <a:graphicData uri="http://schemas.openxmlformats.org/drawingml/2006/table">
            <a:tbl>
              <a:tblPr/>
              <a:tblGrid>
                <a:gridCol w="5316480"/>
                <a:gridCol w="431640"/>
                <a:gridCol w="358920"/>
                <a:gridCol w="288720"/>
                <a:gridCol w="936720"/>
                <a:gridCol w="934920"/>
              </a:tblGrid>
              <a:tr h="113976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Б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20г.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20 год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3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365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664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изационная  и вневойсковая подгото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510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4046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безопасности и правоохранительной 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214200" y="214200"/>
          <a:ext cx="8245440" cy="5023080"/>
        </p:xfrm>
        <a:graphic>
          <a:graphicData uri="http://schemas.openxmlformats.org/drawingml/2006/table">
            <a:tbl>
              <a:tblPr/>
              <a:tblGrid>
                <a:gridCol w="4929480"/>
                <a:gridCol w="571320"/>
                <a:gridCol w="357120"/>
                <a:gridCol w="428760"/>
                <a:gridCol w="1023840"/>
                <a:gridCol w="934920"/>
              </a:tblGrid>
              <a:tr h="109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20г.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20 год, 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2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1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37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устро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65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8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еж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сионное обесп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семьи и дет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7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6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5"/>
          <p:cNvSpPr/>
          <p:nvPr/>
        </p:nvSpPr>
        <p:spPr>
          <a:xfrm>
            <a:off x="158760" y="1260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по расх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 202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 2020 года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Овал 3"/>
          <p:cNvSpPr/>
          <p:nvPr/>
        </p:nvSpPr>
        <p:spPr>
          <a:xfrm>
            <a:off x="1714680" y="1197000"/>
            <a:ext cx="6002280" cy="131436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Общегосударствен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(содержание органа местного самоуправ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3085,9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Блок-схема: альтернативный процесс 4"/>
          <p:cNvSpPr/>
          <p:nvPr/>
        </p:nvSpPr>
        <p:spPr>
          <a:xfrm>
            <a:off x="142920" y="2538360"/>
            <a:ext cx="3044880" cy="154296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высшего должностного лица субъекта Российской Федерации 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15,9тыс. 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Блок-схема: альтернативный процесс 7"/>
          <p:cNvSpPr/>
          <p:nvPr/>
        </p:nvSpPr>
        <p:spPr>
          <a:xfrm>
            <a:off x="5435640" y="2492280"/>
            <a:ext cx="2663640" cy="220212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590,8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Блок-схема: процесс 5"/>
          <p:cNvSpPr/>
          <p:nvPr/>
        </p:nvSpPr>
        <p:spPr>
          <a:xfrm>
            <a:off x="539640" y="4508640"/>
            <a:ext cx="2664000" cy="969840"/>
          </a:xfrm>
          <a:prstGeom prst="flowChart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Глава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15,9 тыс. рубл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Прямая со стрелкой 6"/>
          <p:cNvCxnSpPr>
            <a:stCxn id="338" idx="3"/>
            <a:endCxn id="339" idx="0"/>
          </p:cNvCxnSpPr>
          <p:nvPr/>
        </p:nvCxnSpPr>
        <p:spPr>
          <a:xfrm flipH="1">
            <a:off x="1664640" y="2319480"/>
            <a:ext cx="929160" cy="219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3" name="Прямая со стрелкой 14"/>
          <p:cNvCxnSpPr>
            <a:stCxn id="338" idx="4"/>
            <a:endCxn id="340" idx="0"/>
          </p:cNvCxnSpPr>
          <p:nvPr/>
        </p:nvCxnSpPr>
        <p:spPr>
          <a:xfrm flipV="1">
            <a:off x="4716360" y="2491560"/>
            <a:ext cx="2052000" cy="1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4" name="Прямая со стрелкой 33"/>
          <p:cNvCxnSpPr/>
          <p:nvPr/>
        </p:nvCxnSpPr>
        <p:spPr>
          <a:xfrm>
            <a:off x="324000" y="4941360"/>
            <a:ext cx="194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45" name="Прямая соединительная линия 35"/>
          <p:cNvSpPr/>
          <p:nvPr/>
        </p:nvSpPr>
        <p:spPr>
          <a:xfrm>
            <a:off x="324000" y="4149720"/>
            <a:ext cx="0" cy="792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9:03:10Z</dcterms:created>
  <dc:creator>М.О. Косоротова</dc:creator>
  <dc:description/>
  <dc:language>en-US</dc:language>
  <cp:lastModifiedBy>NovoPershino</cp:lastModifiedBy>
  <dcterms:modified xsi:type="dcterms:W3CDTF">2021-04-20T04:44:39Z</dcterms:modified>
  <cp:revision>36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