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B48-1F27-441F-A258-FD06FCBB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FC4-5A82-41F7-B9A3-3D9D2C35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D18-531F-464E-AE6D-50652035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096-A7F9-491F-A341-CFD76EFA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2B1E-4798-4CEB-ABA0-83519BDA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9E4E-F252-4C15-BD16-559E45E9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D95-2C7C-44BD-A2BC-F16AD6EC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6192-25B8-4B0D-9ABF-8679A5B5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56C4-CE1B-45A5-8832-14E85C8E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8A91-5C9C-4014-8B50-1AFB1024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0A7A-FCF7-4DF8-ABD9-68404A4D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45C-BB55-4B57-8C7F-1AE8B1BC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1644-D77F-49A1-930F-933C0537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457C-12D4-42EE-A97D-1EE88020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3C0E-F783-49DC-B9C6-B19B9702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08F6-184A-4025-9DC1-C1471234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7BA7-E622-4686-ACBD-361401A9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4B97-A5BC-46A6-8CF5-D190616C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8C6B-E506-4E53-B445-E1E4DACA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F438-30C1-4082-8551-1631F190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2EF0-DC0F-42EB-B4E0-3FCFB5C9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65F4-CF52-4C60-97C9-C863E05E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94D-6007-465A-A63E-6E91D46D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FA6B-2360-48D1-AD89-52C1C11B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170B3-7015-4B00-8A80-F9FDBC50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FC3B-7F1A-42BF-BE01-C550CCC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4AA25-A297-4C4A-881D-F1EE6940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A9ACB-AE84-4E3C-AC58-387D2DCC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985D-8BE3-43D2-8D3E-D50DCBEB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DC96-3C36-4184-BFCE-9258A76D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1F96-EFB7-4EB7-94D0-3BB57584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EC255-3E86-4FB8-9FCD-00158C08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61F24-B49B-4741-B5C5-B961B6B1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9CE-7408-4280-9317-2C6E459E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93FD-9D31-442A-B5BA-8EACFDBB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DE14E-2EF2-48DC-83B9-1A5E7C2B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867BB-544D-484B-9ABB-ED3C701F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65C4-AB17-4EEB-849D-4FB00347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7A378-6959-4D31-9EBC-023569D0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BBF3-5EE2-4B31-B02C-0F6D75C5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8084-1463-4D17-9431-80F6C44C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33151-A321-42F4-AAC3-95B6400C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CC1B6-5D17-4FA7-9DA6-9ECF61A2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22ACA-94AB-4708-9344-6F5DD642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091-2483-4BEE-BE59-A77543F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D85F0-910C-484C-861A-9D17DD0B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18463-67E0-475E-AA86-CA679DF1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295CF-B130-46FC-A9C5-2A50537F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CC84C-3D8B-4A94-B880-CBE5D849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591FD-6353-44EA-AF13-793BEC75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0AB5-5A26-4A56-AC41-BC062B1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53C0A-FB13-4A73-8107-DEEA4C3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714D-7FA2-4B5D-B198-DF7A14C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22B14-FF31-41B4-B0D5-93CE3907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C3C2B-7589-4E26-8F83-5F7E67CE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B5C-39B7-40DE-A1E3-E4B4E3A4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6EDD5-C524-4439-A7A8-37F848FD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24132-5CF6-4576-BA9B-D4193F72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103A2-8259-4BC9-A527-8ECF430A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31677-6EBB-4C0D-B6CE-C3C0C473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A2D3B-064F-4B6D-BDAF-5267EB19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40CB4-6B0B-44A5-8603-A7813DE8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0937D-8444-48E7-A7FC-1553AA54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A5E18-8C35-4325-B670-34B58248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D29FF-DCD8-4769-AE48-233FBED7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626D9-9DFE-466F-BAA3-12C3D262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100-CCA4-4745-A56E-CEC1737C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587C6-BAE7-4482-9F27-1DF200F7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59769-96C5-48E2-ABBB-58B55380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BA6AB-E084-4A15-AEB6-75DCE36E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ACDD4-E537-4171-880A-D5C3C410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5BAD3-7D70-4E5C-A448-0FD0B759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CA61A-18E0-4F33-B288-84202CF2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F363E-DD83-4D7B-9AA2-E123A084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60DD2-9104-417B-8008-987B2FEF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AC63-3BDD-497D-92AF-2C51A4E2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C0418-05A5-4785-A76A-DAD81F7B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00E-99E0-445F-A991-2F640544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E3F0B-05D4-49E2-B03E-E77C9826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3EB03-31F9-4E29-B3D9-B98F1BEF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AF2CC-BB72-44F3-9FEA-052558BF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524A-30E3-487B-8ED2-76339CDE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270BD-A666-4CBF-B976-695AF3F6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2D4-C8BF-41C8-AB89-4576C2BE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5454-9270-4440-8E78-06244281F0F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1218-5054-4F81-A179-84B2CEB6F0E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CDE9-F6C7-4CF6-B543-6F7ABF53640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0066-0FB4-4982-8E6C-0F8DAC65021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86C9-0211-4A32-AB3A-3492B537E47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0311-3717-47B8-8CDC-04609BC1958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954B-0175-4C48-B13F-6FC2F1A1EA6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96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2"/>
          <p:cNvSpPr/>
          <p:nvPr/>
        </p:nvSpPr>
        <p:spPr>
          <a:xfrm>
            <a:off x="7000920" y="5572080"/>
            <a:ext cx="2448000" cy="1079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3708360" y="5877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20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3"/>
          <p:cNvSpPr/>
          <p:nvPr/>
        </p:nvSpPr>
        <p:spPr>
          <a:xfrm>
            <a:off x="468360" y="1989000"/>
            <a:ext cx="828036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86,80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06200" y="115920"/>
            <a:ext cx="90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Новопершинского сельсовета Дмитриевского района за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106200" y="1413000"/>
            <a:ext cx="9037800" cy="33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е №33Собрания депутатов Новопершинского сельсовета от 23 марта 2021г            «Об исполнении бюджета муниципального образования «Новопершинский сельсовет» Дмитриевского района Курской области  за 2020год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Новопершинс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за 202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79280" y="1000080"/>
          <a:ext cx="438624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20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53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63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,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20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42920" y="798480"/>
          <a:ext cx="7607520" cy="552600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20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2020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049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  и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47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47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2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56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56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57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57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4352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 НЕНАЛОГОВЫЕ 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7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7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0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0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4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4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35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35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20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2240" y="857160"/>
          <a:ext cx="8267400" cy="506880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0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0 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1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безопасности и правоохранительной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214200" y="214200"/>
          <a:ext cx="8245440" cy="502308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0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0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2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7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6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5"/>
          <p:cNvSpPr/>
          <p:nvPr/>
        </p:nvSpPr>
        <p:spPr>
          <a:xfrm>
            <a:off x="158760" y="12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20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3085,9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15,9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лок-схема: альтернативный процесс 7"/>
          <p:cNvSpPr/>
          <p:nvPr/>
        </p:nvSpPr>
        <p:spPr>
          <a:xfrm>
            <a:off x="5435640" y="2492280"/>
            <a:ext cx="266364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590,8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Блок-схема: процесс 5"/>
          <p:cNvSpPr/>
          <p:nvPr/>
        </p:nvSpPr>
        <p:spPr>
          <a:xfrm>
            <a:off x="539640" y="4508640"/>
            <a:ext cx="266400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15,9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Прямая со стрелкой 6"/>
          <p:cNvCxnSpPr>
            <a:stCxn id="338" idx="3"/>
            <a:endCxn id="339" idx="0"/>
          </p:cNvCxnSpPr>
          <p:nvPr/>
        </p:nvCxnSpPr>
        <p:spPr>
          <a:xfrm flipH="1">
            <a:off x="1664640" y="2319480"/>
            <a:ext cx="9291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Прямая со стрелкой 14"/>
          <p:cNvCxnSpPr>
            <a:stCxn id="338" idx="4"/>
            <a:endCxn id="340" idx="0"/>
          </p:cNvCxnSpPr>
          <p:nvPr/>
        </p:nvCxnSpPr>
        <p:spPr>
          <a:xfrm flipV="1">
            <a:off x="4716360" y="2491560"/>
            <a:ext cx="20520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4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5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NovoPershino</cp:lastModifiedBy>
  <dcterms:modified xsi:type="dcterms:W3CDTF">2021-04-23T11:44:47Z</dcterms:modified>
  <cp:revision>3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