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2F9-51EB-4026-B67E-7E9FACD5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CB3-25B4-45EE-8562-87C5DE8E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568-2FA4-4B9F-A8B4-565B433E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C14-F543-4B8B-AB4F-24D17169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CC3A-281E-4456-AB7E-13512EFA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3E23-69D3-4BB4-896F-45A0A667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8A00-A0F8-42AD-9A8D-FB269336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8E10-C331-4724-B9DA-22EC67A2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144D-94B2-40D5-B4B0-6B2BAE61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62FD-26AE-4632-8DC4-D8E02AC5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C9D4-1C79-41B7-8D74-5CE14904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E7E-A326-46F6-95A6-7D31E7B1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BD98-94C5-41C0-B2EE-3820F371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D7CF-1611-45D9-98B5-947E656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773C-766C-43EC-85BE-8FACFA2A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2607-61B6-41E0-BBBD-1558D4DA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7281-2964-4968-9CC5-A6F35C40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481B1-ABA3-4AEE-9FDB-D3618695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233E-E49F-4CBE-850C-17DD7419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0975C-AEC9-4B6A-94E6-9737B1E7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03CAB-3347-4896-964E-8D182F8B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BA4D-A788-4057-B756-013DE21E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443-6479-4A69-8058-78D69E4E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77D0-6563-4D34-9EBB-5ED5CD64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FE00-6AA6-440A-97A7-E9B790A2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4C47-027A-4B8E-88D5-0284D96E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9095D-AC84-4C3C-86C1-DC46808F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696E-F319-4E44-AB5D-DE16081E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56045-D353-4E88-A0BC-60E78D0F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9A6C2-7D09-4101-8E7D-AF808C70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217D-E03A-48DF-8555-D2ED2231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2AB0D-AE8C-4E53-91C0-D1C5C812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A7496-04D3-4BD8-A481-FC67AD13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3FE-B582-4A3A-953E-CAA15A69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05E38-7736-4FCF-8788-622158B2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1EAC4-8A3A-4F47-A5F2-9B5C1158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B2E55-E9FF-486E-89DF-A9B19027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9D257-5054-4776-973A-4FB67026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B4DFF-8E61-48C0-A1EE-5B878CA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1D6DB-3FB0-4FB9-8819-4B3A18C4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A628F-992A-412D-A117-10F65562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D1A9B-777D-4C34-A6CB-2DDA5D94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9B14F-442B-4917-B738-9B911533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93610-610E-4B3D-B1F6-B344ADAC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3CC-F451-4FB7-98C1-A43B0D49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EECBA-C1BC-4631-9197-99408465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27177-69DB-4EA7-9F5E-5FBB020A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246C1-53D8-41FC-873D-C3C9316F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DD85E-D267-4387-ACF8-45F8DAB5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7F5BE-DC3D-4D63-B4D8-E013507E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DC04E-6E3E-47FF-81BA-27589A52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134BF-F189-4C82-A0A5-6B205114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C436E-C645-484F-A56D-7B46D468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FCC58-0B56-4AD6-BB91-6827DE48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E83A9-4C0F-417B-8349-ABDAEAF9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A4C-B74A-4E78-8E37-09E4DBE3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31732-294B-4CDF-BC53-A8149BE5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8D0A8-52BF-4BB6-B689-CE32AE0D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F5BAA-CF41-43DC-A67F-A5C49B96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D259A-32D3-4A4A-B224-12A04A23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DF427-4EC0-4250-8F18-43AF215A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BFF4A-387E-4600-9ABC-E79E5296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81D2C-D471-46B1-A4CC-C43C57CF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F398B-316D-4C71-BD41-61519F69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AB34C-11E9-4728-98EF-75E66980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96E8C-2111-4AFC-87E4-0E00D813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A00-1970-434F-BE9A-32899993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FFE9D-525E-49DE-AE7F-DA21A3DD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56E0C-F945-4B3C-B328-B0E7334F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D13C6-72BA-4C7E-AE97-E52DF0B9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BD175-5451-42A2-95F8-A2D0EA5B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EAFF9-A721-4FB8-B242-969F7CF6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38C40-06F5-41C6-A329-76440755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A4755-BB52-48F4-95B0-508249CA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27841-03BD-442D-A9C4-018C10B1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821CF-9EFB-4AAB-9776-8BC0B1F6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DCBFB-465E-4055-B827-F6F01E39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02C-1F0D-4E83-AAD7-266C79CB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4F391-FD17-4225-BB22-93CAFC36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F0629-2913-4004-B016-5129110B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3CC3C-13E2-4EB5-952C-F5B4C77F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99F43-1168-409E-B4EE-5F6DA659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89AD1-0256-42D8-8F37-8C0375D8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268-B6A3-44AB-A9EC-65236E79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630E-A1CA-4A57-A447-EBE3891E4E0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DF07-3996-4042-9F4A-6998108B392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4221-F7AE-4CF9-AE4E-A182CEAB091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C6E2-DD35-4208-84A8-BB4D89D1733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D81B-C141-4C22-B472-B8095B7A54E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929B-3CBD-4516-B6BE-48E9B22975C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20E8-C45C-4F53-A4FE-DDE31469999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5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75440" cy="6596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2"/>
          <p:cNvSpPr/>
          <p:nvPr/>
        </p:nvSpPr>
        <p:spPr>
          <a:xfrm>
            <a:off x="7000920" y="5572080"/>
            <a:ext cx="2448000" cy="10796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13"/>
          <p:cNvSpPr txBox="1"/>
          <p:nvPr/>
        </p:nvSpPr>
        <p:spPr>
          <a:xfrm>
            <a:off x="3708360" y="587700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21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3"/>
          <p:cNvSpPr/>
          <p:nvPr/>
        </p:nvSpPr>
        <p:spPr>
          <a:xfrm>
            <a:off x="468360" y="1989000"/>
            <a:ext cx="828036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89,30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06200" y="115920"/>
            <a:ext cx="90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Новопершинского сельсовета Дмитриевского района за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106200" y="1413000"/>
            <a:ext cx="903780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екта Решения  Собрания депутатов Новопершинского сельсовета от       2022г            «Об исполнении бюджета муниципального образования «Новопершинский сельсовет» Дмитриевского района Курской области  за 2021год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Новопершинс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за 202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79280" y="1000080"/>
          <a:ext cx="438624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21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32,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2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,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21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042920" y="798480"/>
          <a:ext cx="7607520" cy="570060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21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2021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049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  и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16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16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4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4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08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</a:t>
                      </a: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08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4348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  НЕНАЛОГОВЫЕ ДОХО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0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0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5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0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0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6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6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8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8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21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2240" y="857160"/>
          <a:ext cx="8267400" cy="506880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1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1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6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1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безопасности и правоохранительной 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214200" y="214200"/>
          <a:ext cx="8245440" cy="502308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1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1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8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6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2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5"/>
          <p:cNvSpPr/>
          <p:nvPr/>
        </p:nvSpPr>
        <p:spPr>
          <a:xfrm>
            <a:off x="158760" y="126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21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2850,6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альтернативный процесс 4"/>
          <p:cNvSpPr/>
          <p:nvPr/>
        </p:nvSpPr>
        <p:spPr>
          <a:xfrm>
            <a:off x="142920" y="2538360"/>
            <a:ext cx="304488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99,8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лок-схема: альтернативный процесс 7"/>
          <p:cNvSpPr/>
          <p:nvPr/>
        </p:nvSpPr>
        <p:spPr>
          <a:xfrm>
            <a:off x="5435640" y="2492280"/>
            <a:ext cx="266364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693,0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Блок-схема: процесс 5"/>
          <p:cNvSpPr/>
          <p:nvPr/>
        </p:nvSpPr>
        <p:spPr>
          <a:xfrm>
            <a:off x="539640" y="4508640"/>
            <a:ext cx="266400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99,8 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Прямая со стрелкой 6"/>
          <p:cNvCxnSpPr>
            <a:stCxn id="338" idx="3"/>
            <a:endCxn id="339" idx="0"/>
          </p:cNvCxnSpPr>
          <p:nvPr/>
        </p:nvCxnSpPr>
        <p:spPr>
          <a:xfrm flipH="1">
            <a:off x="1664640" y="2319480"/>
            <a:ext cx="92916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3" name="Прямая со стрелкой 14"/>
          <p:cNvCxnSpPr>
            <a:stCxn id="338" idx="4"/>
            <a:endCxn id="340" idx="0"/>
          </p:cNvCxnSpPr>
          <p:nvPr/>
        </p:nvCxnSpPr>
        <p:spPr>
          <a:xfrm flipV="1">
            <a:off x="4716360" y="2491560"/>
            <a:ext cx="20520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4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5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NovoPershino</cp:lastModifiedBy>
  <dcterms:modified xsi:type="dcterms:W3CDTF">2022-04-19T09:31:56Z</dcterms:modified>
  <cp:revision>37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