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AFE-45C7-4487-8F45-F96AAFB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A71-DB37-4172-BAB7-3671699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A6E-D5E6-444D-BAED-32CEBE74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A61-A6AC-42E3-8E14-6D11276C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5E8C-4737-4524-B875-9B0C0957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CB67-3E39-40ED-9437-689A13D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AB9A-94F0-4FCF-B21E-5DD6A8CB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2AB-68A6-4745-B21D-51396AD7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926-DEF2-46A7-82D7-107C35A9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A133-65EF-48CA-BCCD-94DE05FB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70B3-8C9F-4B9E-AE28-F6D8512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FC7-7DDA-4E52-856E-56303CE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DF34-C1A7-463C-8A16-E402BB5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293A-9DEA-4C40-810A-A5ED30E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47C1-8112-49FD-B203-5EAA75E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6734-A62B-4B79-917C-CC32C6E1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95F1-C0D5-40AE-9B01-11590596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EF39-0C81-448E-B851-723E9F9E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B851-94F9-4829-9FC1-D5137935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BF49-3DF3-4465-9DA7-C9D463B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A292-2CD9-44F8-9E15-B562498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429D-8B58-4ABB-983D-79ABCE0E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95D-75D5-4265-A7C6-CAD8FA71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A1FB-BBC7-4048-94B4-7FC5D0FC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EA1C-A31E-4502-AFB2-C70601A1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C5DD1-F133-41A9-876F-0E3D7EE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DA96-62AF-4E2A-A208-A2A098B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E745-357A-46AA-92DB-F5B23EE3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EE0D8-8D24-42FD-BDC7-CE1C4412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1BF9-5672-4734-974C-D0F73E2B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F8D20-63B8-4967-8185-9E00555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D1758-E8B8-4961-840B-A8C81081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362B-71BC-4600-AA8F-7CE0B9A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B43-D3DF-45DB-9B36-8D39DF3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2104-F43F-45B8-8E97-6D917EF9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DDD6-DE09-4241-9E8C-664DA4E0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9B0B-62DE-4441-8925-6593B18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9F08-83CD-4500-9265-06C18A7D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2BD7-1AE7-4BB2-9CBF-8A59A3EB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FF23-E3A0-499B-8BA3-8026C42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A94F-45DA-48D0-BCF8-704AB307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C61E-EAAE-4C7A-BE8C-1A34A8C5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22E99-5FEA-45AF-97A4-E48C99E0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B0C46-38C4-40BD-9E31-341353A3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B00-ED80-435D-86D6-34996C42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6042-53A0-4C25-A786-72254D2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FD2F0-8401-47B0-AE35-2E45685B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3644-71E5-4084-8A99-2A271BEA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E0B4-8AF5-416D-A68A-6AE12719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2811-CB3E-4535-8B8D-16EB1B5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05CE6-66BA-4CFB-8637-00CB30D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6506-29F4-471D-9ACD-35158D5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24D3-EB13-42DE-8AE2-E8A387F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B3016-6570-4E98-9010-3A599D7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63814-8F85-4A60-9676-47E9F53A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190-41C3-4C28-98BC-B24AFA79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32760-F5C7-4405-9D3A-D1BA32F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32D9-0DB8-4A5A-9988-92C3495C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65984-6A82-43CB-AF3A-CE086A0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6479-F543-408B-A9AC-7AF73523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C55E-904F-4162-BE5C-14CBF282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D4D23-A384-4012-B868-B5041E4F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E5C8-6EE0-424B-A59E-23DD254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F5F38-58AC-4E77-B125-9DC7616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BF15-C59A-40E6-946A-B7FD662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F832-8208-4DFD-B517-D67F153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C79-629E-4D1F-9844-95AC749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6D091-0907-4293-BF77-451B25A8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163A3-E880-47B0-9DAA-B546270B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AD15-417D-4A25-B57A-E4609381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645A6-7D65-445E-B0B5-E2B6102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5C158-77FB-4CC9-9C82-67D761DF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BEC7-8048-419B-9656-2F702AF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BED86-2BDD-4AE7-A17D-C7DF1B54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DDB3B-74CC-4B2A-9690-9B8F16CB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0A19-60BF-4AE5-B9F9-97AE4D9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4186D-CD18-4664-8511-DD19F8C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727-1439-466F-AE80-42B62B81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8A5D-DEC3-4EA6-83AF-DC4F84D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4084-1601-4202-AE4B-5465C21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65BD5-22B7-4694-B24B-367FE15B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D9EAB-F67E-4591-B25E-C4D17FDC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0748-7998-4916-BF0F-86BB944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056-D93E-437D-A0A9-0F4479C3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9F86-60F1-465D-9AD1-55CBC5119F1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84CE-C911-47FD-9C51-6FA7D70DCAFD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3462-5BE8-4EC3-8D61-A274E9E32FD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9F0F-3866-46D5-9A6C-B65AC2178B4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2B9-5C70-4D7C-B28C-591E2B86563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50F2-51C1-456C-BC0D-531F7DBE90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9730-89EE-4D24-87EF-8CFBC4FDA36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1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9,3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а Решения  Собрания депутатов Новопершинского сельсовета от       2022г            «Об исполнении бюджета муниципального образования «Новопершинский сельсовет» Дмитриевского района Курской области  за 2021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1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1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7006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1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1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850,6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693,0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2-04-19T09:31:56Z</dcterms:modified>
  <cp:revision>3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