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9BF-F131-4EA0-8DE5-7A00F63C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D677-EC17-4C3E-BC6D-A286A166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97C-CD18-4889-BD9A-14C43132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CAD-99E1-4965-800A-C9E1B5FF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4DA3-FDC7-4B1A-9113-D7FA4B66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2D73-24D2-419B-9364-D8D9CC04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838C-903A-4928-80EA-B3045B0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6982-FB0A-4212-855A-833D7DAD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DDA0-9567-47D8-A4CF-CF767524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67B6-7BAE-49AE-A136-7F1FCEA8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EC38-0976-4001-B3E0-138AC79E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0259-6609-430A-B667-FF65A82E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BF35-27FD-4192-AAD3-679A1272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10F8-5151-4A80-B911-D29260F9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6BFC-174F-483F-96EC-FC2B81FD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FDDC-87E9-42FF-A054-F9E4E7FA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63ED-B30C-4083-8F4F-E1D65710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A0B53-7ADB-4C9E-8250-0F77AE00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D716-7EBD-4EC6-AB0D-8BD66A49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1225-163C-4805-AE4C-B7B9F852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0B3F-AC13-4F19-B640-5E9DD93A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084A1-A027-4614-9F51-2CBDA46E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8588-8A7B-4A59-A9A8-CA797F0B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912FF-349E-41FA-AE3D-C8C230B9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7ECB-1749-4C62-8ECB-3D1033AA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91155-F859-41E5-8A97-CE3A5D39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E8ACD-AB90-499D-82E4-6990E79C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5735-9FDF-4461-8A42-A4642493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A63CD-24E9-4DDE-BBF3-604A212F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6081A-F2CC-4DA9-9621-E687A306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290F3-F4E0-4425-9A54-ADF5B38D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1A476-5AA0-4ED0-A4EA-76E7D830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FB127-2136-40C4-AAF7-C0E51DD6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23F-6EDE-4881-9AAA-88E909CB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EDD07-8E7A-4836-B6A0-9D58A0E7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1EBDF-6DB3-446B-8C87-FFBCFD71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FD1C6-7357-4F30-95F7-CD5224F3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37727-32D0-4E97-ADE4-7F9FBC81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9FA86-77AF-4872-B59C-0186DD69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BDB7-2516-4178-A4A4-ACED649A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1B6B-E802-4921-8E10-B4E95A13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0786C-E449-4C38-B36F-EC4896FD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0EEC-1130-4B98-861D-3A1B862E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75A61-0684-4494-BF90-E676CF8B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380E-A099-4496-B2BF-FD1813DA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2691B-DDD5-4CBB-9309-8AE91F3A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3320-F4D4-4CC6-BBB7-B5588A46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869DF-60F8-4F4D-954E-9D56AEC1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66AB4-7477-4F2E-B88B-C074E1E0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89CCA-0758-4273-86C3-4EF58DAC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979CC-C52F-4F3A-A1F6-DA88B79C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D0C7D-46E5-4D6D-8173-ABA865BC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DA48B-C504-4674-A3E3-DDE53AEF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26D04-62B8-4DC6-A577-4648785D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B8E44-00AA-44E3-916A-94CD7A36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C764-5E85-4A9A-B221-A4DE7032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B137E-DA0B-4445-AC22-C078DA10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EE22D-6D96-4186-B8D8-7399D27B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6F0BB-9FE4-4D1E-AE6E-EB90BB82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8C692-98F2-4F1B-BEDF-AF4D0229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7214B-8D64-472E-B968-199C8D08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9DDD2-1595-4E49-9A93-2C73C9C6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C4B29-BC1A-4D1A-8ADE-378B1540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4BD93-9E0B-40CA-8C5B-E94BD9AC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6F705-84BC-4FF3-AD8A-DF194B19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27689-DA67-4F0E-AE0C-A61DCCCE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C15-79EF-435C-AA1E-15A6F909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30239-CF6E-4DA2-87C1-CF2BB67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FE3CD-3D32-44E5-B2B8-02BAB023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23DC4-37F5-4DB1-BD9F-7BD97EA5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42149-2FAC-4FA5-955F-B699F6D2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EE467-AABF-4CE7-9C00-B705ECF2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F33F1-5C11-4039-97F2-4F198DBB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0B5A1-215F-4F8E-8DB3-F6093B0B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17A6C-6211-402E-BE0B-753B44F8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89AC2-3E96-4CC1-92EC-D5A2A324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2D4E7-344F-496D-ADC9-EC70A3EA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4E2-B94A-493E-9DD1-9E65A4A0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5A3BC-6DA0-4C1B-A437-9520E289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12810-218D-4D90-AB39-479F8B69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9CAC-BC11-4B78-841B-96F8197E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C7FAC-D378-4444-9938-50595031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7ACFB-5B16-4955-821D-49C739A7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621-8432-4BB0-9491-1A38FB43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603C-B260-4FA0-BF9D-DA09CDEB56A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AFC7-821D-4552-BECA-21D37F730A8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60B2-0157-4F24-8672-92347393FE6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6363-4CAC-4EC7-B988-7A2E6352216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A5A7-0408-455C-8D95-2C0018ECE389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F1FB-CB4D-4323-86CA-512CB7DF05A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867E-73A4-4B3B-AE04-E475938DE2A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WordArt 5" descr=""/>
          <p:cNvPicPr/>
          <p:nvPr/>
        </p:nvPicPr>
        <p:blipFill>
          <a:blip r:embed="rId1"/>
          <a:stretch/>
        </p:blipFill>
        <p:spPr>
          <a:xfrm>
            <a:off x="165240" y="109440"/>
            <a:ext cx="8875440" cy="65962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2"/>
          <p:cNvSpPr/>
          <p:nvPr/>
        </p:nvSpPr>
        <p:spPr>
          <a:xfrm>
            <a:off x="7000920" y="5572080"/>
            <a:ext cx="2448000" cy="107964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3"/>
          <p:cNvSpPr txBox="1"/>
          <p:nvPr/>
        </p:nvSpPr>
        <p:spPr>
          <a:xfrm>
            <a:off x="3708360" y="5877000"/>
            <a:ext cx="172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21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3"/>
          <p:cNvSpPr/>
          <p:nvPr/>
        </p:nvSpPr>
        <p:spPr>
          <a:xfrm>
            <a:off x="468360" y="1989000"/>
            <a:ext cx="828036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89,30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06200" y="115920"/>
            <a:ext cx="90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Новопершинского сельсовета Дмитриевского района за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4"/>
          <p:cNvSpPr/>
          <p:nvPr/>
        </p:nvSpPr>
        <p:spPr>
          <a:xfrm>
            <a:off x="106200" y="1413000"/>
            <a:ext cx="903780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екта Решения  Собрания депутатов Новопершинского сельсовета от       2022г            «Об исполнении бюджета муниципального образования «Новопершинский сельсовет» Дмитриевского района Курской области  за 2021год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Новопершинс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за 202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79280" y="1000080"/>
          <a:ext cx="438624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21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2,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,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1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042920" y="798480"/>
          <a:ext cx="7607520" cy="570060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21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2021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049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  и 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16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16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4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2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4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74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74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98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0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</a:t>
                      </a: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08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4348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 НЕНАЛОГОВЫЕ ДОХО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6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0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70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60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6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6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8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9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21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32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92240" y="857160"/>
          <a:ext cx="8267400" cy="506880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8720"/>
                <a:gridCol w="936720"/>
                <a:gridCol w="93492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1г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1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6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1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безопасности и правоохранительной 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214200" y="214200"/>
          <a:ext cx="8245440" cy="50230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1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1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8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6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65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6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2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нсионное обесп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2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8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5"/>
          <p:cNvSpPr/>
          <p:nvPr/>
        </p:nvSpPr>
        <p:spPr>
          <a:xfrm>
            <a:off x="158760" y="1260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21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2850,6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альтернативный процесс 4"/>
          <p:cNvSpPr/>
          <p:nvPr/>
        </p:nvSpPr>
        <p:spPr>
          <a:xfrm>
            <a:off x="142920" y="2538360"/>
            <a:ext cx="304488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99,8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Блок-схема: альтернативный процесс 7"/>
          <p:cNvSpPr/>
          <p:nvPr/>
        </p:nvSpPr>
        <p:spPr>
          <a:xfrm>
            <a:off x="5435640" y="2492280"/>
            <a:ext cx="266364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693,0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Блок-схема: процесс 5"/>
          <p:cNvSpPr/>
          <p:nvPr/>
        </p:nvSpPr>
        <p:spPr>
          <a:xfrm>
            <a:off x="539640" y="4508640"/>
            <a:ext cx="266400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499,8 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Прямая со стрелкой 6"/>
          <p:cNvCxnSpPr>
            <a:stCxn id="338" idx="3"/>
            <a:endCxn id="339" idx="0"/>
          </p:cNvCxnSpPr>
          <p:nvPr/>
        </p:nvCxnSpPr>
        <p:spPr>
          <a:xfrm flipH="1">
            <a:off x="1664640" y="2319480"/>
            <a:ext cx="92916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3" name="Прямая со стрелкой 14"/>
          <p:cNvCxnSpPr>
            <a:stCxn id="338" idx="4"/>
            <a:endCxn id="340" idx="0"/>
          </p:cNvCxnSpPr>
          <p:nvPr/>
        </p:nvCxnSpPr>
        <p:spPr>
          <a:xfrm flipV="1">
            <a:off x="4716360" y="2491560"/>
            <a:ext cx="20520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4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5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NovoPershino</cp:lastModifiedBy>
  <dcterms:modified xsi:type="dcterms:W3CDTF">2022-04-19T09:31:56Z</dcterms:modified>
  <cp:revision>37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