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6D7-3FD8-4BC3-B26A-D981365D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793-4070-43C7-B92D-7A1627E1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5CD-EFB5-40F4-B857-E97141AB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3A8-9E20-4956-8009-ABBD83DC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95F5-D03A-4FFD-873B-697BAA0E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8304-B862-4B8E-9630-DBFA4EF9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3090-3D0C-43B2-826E-3B563C7F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205E-6B4F-44A4-9769-02E1994E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F59C-B879-4659-95F3-22B335D7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2F99-F186-455D-9C07-68ADA68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6CFC-560C-47DC-8DD2-DDCE31B4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3F8-6609-40F5-9EE9-5480972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0262-9987-4FC7-9BB8-558F3E8D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13B7-FB1F-463D-A280-7C3F57A7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72E7-E489-4922-8C2A-1030F92F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2C3F-C688-411C-A34A-CFDA1A62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3B34-FB69-4463-BF0A-4854D2AC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E424-530A-4CFB-9B99-9B3FC263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E0195-8D24-4675-ACD8-D61E6F83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5B62-DD5C-4ED3-ABEE-64836182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7955-FC8E-402E-8098-99E8E7C3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8C5A8-07D0-412C-9186-8AAF6EC4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1B3-0A5A-4F71-BEF0-394E00B7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740F-BF72-49DF-8299-EACE19F5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01CE-08CC-49E1-9420-102AD9A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1496-0D48-444F-8A4C-999246DA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A555-5EB1-49C5-BBA2-F400912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CD14-EAE0-4D7B-A15A-3FF871D0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09C49-D25A-4312-8FF5-0A0DB88A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24A0-0DF8-4C3B-B137-7758FD78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3B1F0-6CB4-4550-BD00-DFF2E7CF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F50C-8F5E-4659-84FF-1D6086F2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4068-2FA5-43A4-AD7F-9B75B1B8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B59-0306-4D04-8A39-7A25E53D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4183F-E80F-4DBA-BC3F-919CDDB0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3662D-C938-4397-A155-299A14C4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3B894-A191-431E-944B-ECBF2E5E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89635-34A1-4008-803D-A497D50F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5FF84-26B1-428C-A2AD-B95B5081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B441-B7DB-4552-A486-60338E52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8E90-BD38-4449-9123-7D67DD46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2CABB-D7E3-479B-A478-137E3D77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0507-3B05-4A36-8E49-3B507156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05E57-ED61-4430-9489-F812C726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356-7A92-4131-B166-BE655CE8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85AC-1FC3-409C-963D-F269EBF0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B6052-3DDD-4797-896A-2CFD4E5A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1A175-6076-477C-AC59-94962D49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E3BB0-F9E7-4206-957F-A284C0AB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9B91A-982D-4933-9FC0-E3FDC216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ADD82-099E-4F61-B3AF-B0938C4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B5161-0B76-462E-946C-E90A7EB7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95307-AEB1-4384-8C90-0A59B5CD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618E8-3333-4333-BE94-29DD58CC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7D6C2-C72E-4829-ADDF-7ABA9ED5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5FB-06E0-4B91-B8CF-C6BAB3BE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29436-AAC6-47EE-9178-7D5D0311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62C0-541C-4A79-B577-459F18DA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4E6CF-DD3C-4809-948F-B157FBBB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9DD6F-E080-4BF1-BEAB-D5E2F5D2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5F2E7-65A7-4F85-AAE6-1D7134BC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107FA-2672-4C5B-B4F8-7768A1EA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F298D-D356-47E2-A892-469287C5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F1224-E400-4D8B-82C6-B98DC7F3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DAF06-95DD-483F-B654-92F7D8B6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C5E34-5882-4305-A028-A5C30FE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3B6-890C-46FF-901E-F577BACD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9DB0A-08AF-433E-8968-9686F521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D998-A486-44BC-96A6-54EEBAF6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1DA33-5343-40C4-B634-A24711D5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08D55-D9E4-41F6-BDFC-D834016D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9D27F-B9DC-4B6A-8D0D-41FB0322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FFAF7-11AF-46AD-96C0-53680A5F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AEBCB-3FF8-4989-ADF2-B6E6C867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EEF24-3F5C-48C4-B607-D1CB79E1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B29AF-5848-40BA-8305-CEEEA9F4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C11AE-B5CD-42D1-AA32-BC6280E8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FF3-D5A9-4032-A97B-DD9B7C71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ABF75-DFBE-41CF-883F-51CA3A0F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94104-A4C9-4522-9B59-A67CBD6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16D41-8F99-439F-A162-7F89A956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FF0D4-01E6-4860-A08D-E8E81BFE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F8F0F-0877-48D6-9B96-62DC8F8E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539-D52E-4252-8127-C5B8B18D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FFEB-7CC6-4E02-B114-BD6A7A889FC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006F-02F1-451E-975D-F8FD4B7326D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B259-BFA8-462E-AF0F-5778497A140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17EA-6ACE-4E4C-9B4B-A2CE1503EF6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7224-B762-4E28-B3A6-22A44750C76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D8A5-EFD6-49BF-9D53-F49D1F45BA0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FD82-2DBB-480A-9885-748F3A523F1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96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2"/>
          <p:cNvSpPr/>
          <p:nvPr/>
        </p:nvSpPr>
        <p:spPr>
          <a:xfrm>
            <a:off x="7000920" y="5572080"/>
            <a:ext cx="2448000" cy="1079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3708360" y="5877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21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3"/>
          <p:cNvSpPr/>
          <p:nvPr/>
        </p:nvSpPr>
        <p:spPr>
          <a:xfrm>
            <a:off x="468360" y="1989000"/>
            <a:ext cx="828036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89,30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06200" y="115920"/>
            <a:ext cx="90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Новопершинского сельсовета Дмитриевского района за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106200" y="1413000"/>
            <a:ext cx="903780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е Собрания депутатов Новопершинского сельсовета от   22.04.    2022г   №65  «Об исполнении бюджета муниципального образования «Новопершинский сельсовет» Дмитриевского района Курской области  за 2021год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Новопершинс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за 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79280" y="1000080"/>
          <a:ext cx="438624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21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2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,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21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42920" y="798480"/>
          <a:ext cx="7607520" cy="570060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21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2021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049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  и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16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16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4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4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0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</a:t>
                      </a: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0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4348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 НЕНАЛОГОВЫЕ 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0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0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0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0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6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6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21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2240" y="857160"/>
          <a:ext cx="8267400" cy="506880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1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1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1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безопасности и правоохранительной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214200" y="214200"/>
          <a:ext cx="8245440" cy="502308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1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1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8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6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2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5"/>
          <p:cNvSpPr/>
          <p:nvPr/>
        </p:nvSpPr>
        <p:spPr>
          <a:xfrm>
            <a:off x="158760" y="12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21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2850,6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99,8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лок-схема: альтернативный процесс 7"/>
          <p:cNvSpPr/>
          <p:nvPr/>
        </p:nvSpPr>
        <p:spPr>
          <a:xfrm>
            <a:off x="5435640" y="2492280"/>
            <a:ext cx="266364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693,0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Блок-схема: процесс 5"/>
          <p:cNvSpPr/>
          <p:nvPr/>
        </p:nvSpPr>
        <p:spPr>
          <a:xfrm>
            <a:off x="539640" y="4508640"/>
            <a:ext cx="266400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99,8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Прямая со стрелкой 6"/>
          <p:cNvCxnSpPr>
            <a:stCxn id="338" idx="3"/>
            <a:endCxn id="339" idx="0"/>
          </p:cNvCxnSpPr>
          <p:nvPr/>
        </p:nvCxnSpPr>
        <p:spPr>
          <a:xfrm flipH="1">
            <a:off x="1664640" y="2319480"/>
            <a:ext cx="9291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Прямая со стрелкой 14"/>
          <p:cNvCxnSpPr>
            <a:stCxn id="338" idx="4"/>
            <a:endCxn id="340" idx="0"/>
          </p:cNvCxnSpPr>
          <p:nvPr/>
        </p:nvCxnSpPr>
        <p:spPr>
          <a:xfrm flipV="1">
            <a:off x="4716360" y="2491560"/>
            <a:ext cx="20520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4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5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NovoPershino</cp:lastModifiedBy>
  <dcterms:modified xsi:type="dcterms:W3CDTF">2023-02-07T11:27:22Z</dcterms:modified>
  <cp:revision>38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